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672-C45C-49D4-ACBF-BB97A784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F16-533D-4CA1-9F5C-6A0B962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604-6A0A-4A7C-9E09-DD870F6C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4F8-12D8-4CDA-91C0-9EF0D1F7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BB8-4350-44FE-B7AD-18980C8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D3F-38F6-4932-8B5E-0A9AA341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4AB-E092-4D0D-9701-E9A8161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D91-2EFF-4B7F-9341-BD1D022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DCD-1747-467C-8E83-366D05B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2E7-81E4-4C75-AA3F-57A41FD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EB8-448E-4907-9943-278B657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EDB-8BAD-405B-BAB9-01AE827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3F1-7903-4452-8FE5-984E67C8F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4419720"/>
            <a:ext cx="2286000" cy="1828800"/>
          </a:xfrm>
          <a:prstGeom prst="cube">
            <a:avLst>
              <a:gd name="adj" fmla="val 25000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4479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Volumes of Prisms and Cyl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20600">
            <a:off x="0" y="4572000"/>
            <a:ext cx="1822320" cy="1538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952880"/>
            <a:ext cx="99072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95280"/>
            <a:ext cx="1295640" cy="914400"/>
          </a:xfrm>
          <a:prstGeom prst="hexagon">
            <a:avLst>
              <a:gd name="adj" fmla="val 35423"/>
              <a:gd name="vf" fmla="val 115470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5334120"/>
            <a:ext cx="914400" cy="761760"/>
          </a:xfrm>
          <a:prstGeom prst="pentagon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581280"/>
            <a:ext cx="1447920" cy="1219320"/>
          </a:xfrm>
          <a:prstGeom prst="cube">
            <a:avLst>
              <a:gd name="adj" fmla="val 25000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981080"/>
            <a:ext cx="1219320" cy="12193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2514600" cy="274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143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ength of this prism if its volume is 210 cm³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906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09720" y="2785680"/>
            <a:ext cx="955080" cy="581040"/>
            <a:chOff x="1809720" y="2785680"/>
            <a:chExt cx="955080" cy="581040"/>
          </a:xfrm>
        </p:grpSpPr>
        <p:sp>
          <p:nvSpPr>
            <p:cNvPr id="117" name=""/>
            <p:cNvSpPr/>
            <p:nvPr/>
          </p:nvSpPr>
          <p:spPr>
            <a:xfrm flipV="1">
              <a:off x="1810080" y="2785680"/>
              <a:ext cx="954720" cy="58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809720" y="3134520"/>
              <a:ext cx="381600" cy="23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19255800">
            <a:off x="1829160" y="2895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g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2743200"/>
            <a:ext cx="5427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0 = 30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36572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, Length   = 2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7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4936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you have to work out the area of the cross section too. What is the volume of this pr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62200" y="2300760"/>
            <a:ext cx="795240" cy="624960"/>
            <a:chOff x="1762200" y="2300760"/>
            <a:chExt cx="795240" cy="624960"/>
          </a:xfrm>
        </p:grpSpPr>
        <p:sp>
          <p:nvSpPr>
            <p:cNvPr id="126" name=""/>
            <p:cNvSpPr/>
            <p:nvPr/>
          </p:nvSpPr>
          <p:spPr>
            <a:xfrm flipV="1">
              <a:off x="1762560" y="2300760"/>
              <a:ext cx="794880" cy="62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762200" y="2675880"/>
              <a:ext cx="317880" cy="24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9255800">
            <a:off x="1753200" y="251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057400"/>
            <a:ext cx="5538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4. Area of cross section =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19112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4 x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520" y="5715000"/>
            <a:ext cx="2361960" cy="0"/>
            <a:chOff x="533520" y="5715000"/>
            <a:chExt cx="2361960" cy="0"/>
          </a:xfrm>
        </p:grpSpPr>
        <p:sp>
          <p:nvSpPr>
            <p:cNvPr id="132" name=""/>
            <p:cNvSpPr/>
            <p:nvPr/>
          </p:nvSpPr>
          <p:spPr>
            <a:xfrm>
              <a:off x="533520" y="571500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33520" y="5715000"/>
              <a:ext cx="94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17560" y="2895120"/>
            <a:ext cx="0" cy="2591280"/>
            <a:chOff x="1717560" y="2895120"/>
            <a:chExt cx="0" cy="2591280"/>
          </a:xfrm>
        </p:grpSpPr>
        <p:sp>
          <p:nvSpPr>
            <p:cNvPr id="135" name=""/>
            <p:cNvSpPr/>
            <p:nvPr/>
          </p:nvSpPr>
          <p:spPr>
            <a:xfrm flipV="1">
              <a:off x="1717560" y="28951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7560" y="4449960"/>
              <a:ext cx="0" cy="103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6200000">
            <a:off x="762120" y="3885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0524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819520"/>
            <a:ext cx="198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8 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90240" y="3270240"/>
            <a:ext cx="763560" cy="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24 cm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16  cm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75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75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838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volume of this pr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73360" y="2328480"/>
            <a:ext cx="937800" cy="570600"/>
            <a:chOff x="1773360" y="2328480"/>
            <a:chExt cx="937800" cy="570600"/>
          </a:xfrm>
        </p:grpSpPr>
        <p:sp>
          <p:nvSpPr>
            <p:cNvPr id="147" name=""/>
            <p:cNvSpPr/>
            <p:nvPr/>
          </p:nvSpPr>
          <p:spPr>
            <a:xfrm flipV="1">
              <a:off x="1773360" y="2328480"/>
              <a:ext cx="937800" cy="57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773360" y="2670840"/>
              <a:ext cx="37476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9255800">
            <a:off x="1751400" y="2512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2057400"/>
            <a:ext cx="561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5 Area of cross section =  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419112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0 x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8560" y="5637600"/>
            <a:ext cx="2356920" cy="155160"/>
            <a:chOff x="538560" y="5637600"/>
            <a:chExt cx="2356920" cy="155160"/>
          </a:xfrm>
        </p:grpSpPr>
        <p:sp>
          <p:nvSpPr>
            <p:cNvPr id="153" name=""/>
            <p:cNvSpPr/>
            <p:nvPr/>
          </p:nvSpPr>
          <p:spPr>
            <a:xfrm>
              <a:off x="538560" y="5637600"/>
              <a:ext cx="2356920" cy="15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38560" y="5637600"/>
              <a:ext cx="942480" cy="6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25480" y="2895120"/>
            <a:ext cx="0" cy="2667600"/>
            <a:chOff x="1725480" y="2895120"/>
            <a:chExt cx="0" cy="2667600"/>
          </a:xfrm>
        </p:grpSpPr>
        <p:sp>
          <p:nvSpPr>
            <p:cNvPr id="156" name=""/>
            <p:cNvSpPr/>
            <p:nvPr/>
          </p:nvSpPr>
          <p:spPr>
            <a:xfrm flipV="1">
              <a:off x="1725480" y="2895120"/>
              <a:ext cx="0" cy="26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25480" y="449604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6200000">
            <a:off x="762120" y="3885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250524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819520"/>
            <a:ext cx="198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5 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690240" y="3270240"/>
            <a:ext cx="763560" cy="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40 cm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40  cm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7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75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838080"/>
            <a:ext cx="7935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6. Find the length marked with the letter,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The volume of the prism is 240 c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07920" y="2382840"/>
            <a:ext cx="782280" cy="608760"/>
            <a:chOff x="1807920" y="2382840"/>
            <a:chExt cx="782280" cy="608760"/>
          </a:xfrm>
        </p:grpSpPr>
        <p:sp>
          <p:nvSpPr>
            <p:cNvPr id="168" name=""/>
            <p:cNvSpPr/>
            <p:nvPr/>
          </p:nvSpPr>
          <p:spPr>
            <a:xfrm flipV="1">
              <a:off x="1808280" y="2382840"/>
              <a:ext cx="781920" cy="60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807920" y="2748240"/>
              <a:ext cx="312840" cy="24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19255800">
            <a:off x="1751400" y="2512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060640"/>
            <a:ext cx="53989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olume = 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40 =  area of cross section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ea of cross section = 240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12 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8640" y="5672880"/>
            <a:ext cx="2437560" cy="81720"/>
            <a:chOff x="458640" y="5672880"/>
            <a:chExt cx="2437560" cy="81720"/>
          </a:xfrm>
        </p:grpSpPr>
        <p:sp>
          <p:nvSpPr>
            <p:cNvPr id="173" name=""/>
            <p:cNvSpPr/>
            <p:nvPr/>
          </p:nvSpPr>
          <p:spPr>
            <a:xfrm>
              <a:off x="459000" y="5672880"/>
              <a:ext cx="243720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58640" y="5672880"/>
              <a:ext cx="974880" cy="3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17560" y="2895120"/>
            <a:ext cx="0" cy="2591280"/>
            <a:chOff x="1717560" y="2895120"/>
            <a:chExt cx="0" cy="2591280"/>
          </a:xfrm>
        </p:grpSpPr>
        <p:sp>
          <p:nvSpPr>
            <p:cNvPr id="176" name=""/>
            <p:cNvSpPr/>
            <p:nvPr/>
          </p:nvSpPr>
          <p:spPr>
            <a:xfrm flipV="1">
              <a:off x="1717560" y="28951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17560" y="4449960"/>
              <a:ext cx="0" cy="103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792720" y="3853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819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7339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=  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15764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41972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4  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0240" y="4815000"/>
            <a:ext cx="804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16744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= 2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6 c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325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25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9144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0574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the slice through a prism is called the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cros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276720"/>
            <a:ext cx="723888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lume of a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cylinde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rea of cross section x leng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627440"/>
            <a:ext cx="7772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of cross section  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base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a triangular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5181480"/>
            <a:ext cx="21337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3560" y="49165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14300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28600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0532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87692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775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275"/>
                            </p:stCondLst>
                            <p:childTnLst>
                              <p:par>
                                <p:cTn id="5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65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4775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275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775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6274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1905120"/>
            <a:ext cx="4267440" cy="31240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666880"/>
            <a:ext cx="3505320" cy="2355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09680" y="5334120"/>
            <a:ext cx="3504960" cy="0"/>
            <a:chOff x="2209680" y="5334120"/>
            <a:chExt cx="3504960" cy="0"/>
          </a:xfrm>
        </p:grpSpPr>
        <p:sp>
          <p:nvSpPr>
            <p:cNvPr id="52" name=""/>
            <p:cNvSpPr/>
            <p:nvPr/>
          </p:nvSpPr>
          <p:spPr>
            <a:xfrm>
              <a:off x="2209680" y="5334120"/>
              <a:ext cx="3504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680" y="5334120"/>
              <a:ext cx="140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828800" y="2666520"/>
            <a:ext cx="0" cy="2362680"/>
            <a:chOff x="1828800" y="2666520"/>
            <a:chExt cx="0" cy="2362680"/>
          </a:xfrm>
        </p:grpSpPr>
        <p:sp>
          <p:nvSpPr>
            <p:cNvPr id="55" name=""/>
            <p:cNvSpPr/>
            <p:nvPr/>
          </p:nvSpPr>
          <p:spPr>
            <a:xfrm>
              <a:off x="1828800" y="266688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828800" y="2666520"/>
              <a:ext cx="0" cy="94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590920" y="5638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,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02760" y="32720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13880" y="4286520"/>
            <a:ext cx="647280" cy="735480"/>
            <a:chOff x="6113880" y="4286520"/>
            <a:chExt cx="647280" cy="735480"/>
          </a:xfrm>
        </p:grpSpPr>
        <p:sp>
          <p:nvSpPr>
            <p:cNvPr id="60" name=""/>
            <p:cNvSpPr/>
            <p:nvPr/>
          </p:nvSpPr>
          <p:spPr>
            <a:xfrm flipV="1">
              <a:off x="6113880" y="4286520"/>
              <a:ext cx="647280" cy="73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113880" y="4727880"/>
              <a:ext cx="258840" cy="29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18469800">
            <a:off x="6066720" y="4286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,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9907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f this Cuboid is …..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82880"/>
            <a:ext cx="32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 x Height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x H x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0666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r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419720"/>
            <a:ext cx="990720" cy="1066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733920"/>
            <a:ext cx="1371600" cy="1143000"/>
          </a:xfrm>
          <a:prstGeom prst="parallelogram">
            <a:avLst>
              <a:gd name="adj" fmla="val 30000"/>
            </a:avLst>
          </a:prstGeom>
          <a:gradFill rotWithShape="0">
            <a:gsLst>
              <a:gs pos="0">
                <a:srgbClr val="b925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2057400" cy="1600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275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775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275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95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apes are pr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1143000" y="289548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7086600" y="2819520"/>
            <a:ext cx="1447920" cy="1447560"/>
          </a:xfrm>
          <a:custGeom>
            <a:avLst/>
            <a:gdLst>
              <a:gd name="textAreaLeft" fmla="*/ 340200 w 1447920"/>
              <a:gd name="textAreaRight" fmla="*/ 1106640 w 144792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 rot="10921800">
            <a:off x="1600200" y="4114800"/>
            <a:ext cx="1905120" cy="228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4572000" y="3048120"/>
            <a:ext cx="1371600" cy="121896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6172200" y="5105520"/>
            <a:ext cx="2057400" cy="10666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52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1295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apes are pr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89548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2819520"/>
            <a:ext cx="1447920" cy="1447560"/>
          </a:xfrm>
          <a:custGeom>
            <a:avLst/>
            <a:gdLst>
              <a:gd name="textAreaLeft" fmla="*/ 340200 w 1447920"/>
              <a:gd name="textAreaRight" fmla="*/ 1106640 w 144792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921800">
            <a:off x="1600200" y="4114800"/>
            <a:ext cx="1905120" cy="228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048120"/>
            <a:ext cx="1371600" cy="121896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05520"/>
            <a:ext cx="2057400" cy="10666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2860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 of them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0200" y="4086360"/>
            <a:ext cx="2652480" cy="170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914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8098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2670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the slice through a prism is called the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cros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2320" y="914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ylinder is a prism and has a circle as its cross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276720"/>
            <a:ext cx="221004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971800"/>
            <a:ext cx="220968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 rot="11832000">
            <a:off x="5790960" y="3281040"/>
            <a:ext cx="1371600" cy="90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ghton Rock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914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9051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lume of a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rea of cross section x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343400"/>
            <a:ext cx="2133360" cy="2057400"/>
          </a:xfrm>
          <a:prstGeom prst="hexagon">
            <a:avLst>
              <a:gd name="adj" fmla="val 25923"/>
              <a:gd name="vf" fmla="val 115470"/>
            </a:avLst>
          </a:prstGeom>
          <a:gradFill rotWithShape="0">
            <a:gsLst>
              <a:gs pos="0">
                <a:srgbClr val="393960"/>
              </a:gs>
              <a:gs pos="50000">
                <a:srgbClr val="9999ff"/>
              </a:gs>
              <a:gs pos="100000">
                <a:srgbClr val="39396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76760" y="3601800"/>
            <a:ext cx="1335600" cy="731160"/>
            <a:chOff x="6476760" y="3601800"/>
            <a:chExt cx="1335600" cy="731160"/>
          </a:xfrm>
        </p:grpSpPr>
        <p:sp>
          <p:nvSpPr>
            <p:cNvPr id="99" name=""/>
            <p:cNvSpPr/>
            <p:nvPr/>
          </p:nvSpPr>
          <p:spPr>
            <a:xfrm flipV="1">
              <a:off x="6477120" y="3601800"/>
              <a:ext cx="1335240" cy="73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76760" y="4040640"/>
              <a:ext cx="533880" cy="29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9668000">
            <a:off x="6935040" y="3458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4952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860640"/>
            <a:ext cx="539100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 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70 cm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375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875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375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875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143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volume of this pr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505320"/>
            <a:ext cx="2438280" cy="18288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6005e"/>
              </a:gs>
              <a:gs pos="50000">
                <a:srgbClr val="9900cc"/>
              </a:gs>
              <a:gs pos="100000">
                <a:srgbClr val="46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38840" y="2686320"/>
            <a:ext cx="1237680" cy="887400"/>
            <a:chOff x="1338840" y="2686320"/>
            <a:chExt cx="1237680" cy="887400"/>
          </a:xfrm>
        </p:grpSpPr>
        <p:sp>
          <p:nvSpPr>
            <p:cNvPr id="108" name=""/>
            <p:cNvSpPr/>
            <p:nvPr/>
          </p:nvSpPr>
          <p:spPr>
            <a:xfrm flipV="1">
              <a:off x="1339200" y="2686320"/>
              <a:ext cx="1237320" cy="88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38840" y="3218760"/>
              <a:ext cx="494640" cy="35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19255800">
            <a:off x="1751400" y="261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743200"/>
            <a:ext cx="4724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10752600">
            <a:off x="5330520" y="4362120"/>
            <a:ext cx="25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20 cm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9:40:13Z</dcterms:created>
  <dc:creator>Brilliant</dc:creator>
  <dc:description/>
  <dc:language>en-US</dc:language>
  <cp:lastModifiedBy>Anjna</cp:lastModifiedBy>
  <dcterms:modified xsi:type="dcterms:W3CDTF">2090-11-02T11:04:19Z</dcterms:modified>
  <cp:revision>33</cp:revision>
  <dc:subject/>
  <dc:title>PowerPoint Presentation</dc:title>
</cp:coreProperties>
</file>